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1FE4-D7F0-4DEC-BA4C-0924EE70E1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1DA6-B2BD-4546-981D-44B633ACF4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7DA-583E-433A-A255-7AC8DCB3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73C-2009-42B0-9183-8180DCF0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934-0D93-4AE4-87A9-BAA2F7E6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35F-BCCE-4E2F-8F2A-89B9CEB4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C76-A72B-4448-819B-C39B0861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4F6-1C52-4915-9EA3-D6273E30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EC2-8C54-4B95-91A1-4419A0BB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D98-7A99-48D9-A73A-80B8FBAD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E68B-79B8-49DD-AA96-B4C8FB55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24E-4D17-4BB7-A80E-A5516BC3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D80-CD79-472A-A1F1-72142CA0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27F-3A5B-4F87-B34B-E44163A0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FC81-1666-48CC-A835-AD7F46C527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96840" y="1182600"/>
            <a:ext cx="8815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7" descr="5.jpg"/>
          <p:cNvPicPr/>
          <p:nvPr/>
        </p:nvPicPr>
        <p:blipFill>
          <a:blip r:embed="rId1"/>
          <a:stretch/>
        </p:blipFill>
        <p:spPr>
          <a:xfrm>
            <a:off x="3132000" y="1557360"/>
            <a:ext cx="3899160" cy="2924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"телефон доверия" для сообщений о проявлениях коррупции в Министерстве образования и науки Республики Татарстан: 292-80-4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2.jpg"/>
          <p:cNvPicPr/>
          <p:nvPr/>
        </p:nvPicPr>
        <p:blipFill>
          <a:blip r:embed="rId2"/>
          <a:stretch/>
        </p:blipFill>
        <p:spPr>
          <a:xfrm>
            <a:off x="3132000" y="443700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3.png"/>
          <p:cNvPicPr/>
          <p:nvPr/>
        </p:nvPicPr>
        <p:blipFill>
          <a:blip r:embed="rId3"/>
          <a:stretch/>
        </p:blipFill>
        <p:spPr>
          <a:xfrm>
            <a:off x="6948360" y="1558800"/>
            <a:ext cx="2195640" cy="28544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4.jpg"/>
          <p:cNvPicPr/>
          <p:nvPr/>
        </p:nvPicPr>
        <p:blipFill>
          <a:blip r:embed="rId4"/>
          <a:stretch/>
        </p:blipFill>
        <p:spPr>
          <a:xfrm>
            <a:off x="0" y="4508640"/>
            <a:ext cx="3165480" cy="2349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6.jpg"/>
          <p:cNvPicPr/>
          <p:nvPr/>
        </p:nvPicPr>
        <p:blipFill>
          <a:blip r:embed="rId5"/>
          <a:stretch/>
        </p:blipFill>
        <p:spPr>
          <a:xfrm>
            <a:off x="6084720" y="4410000"/>
            <a:ext cx="3059280" cy="244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1.jpg"/>
          <p:cNvPicPr/>
          <p:nvPr/>
        </p:nvPicPr>
        <p:blipFill>
          <a:blip r:embed="rId6"/>
          <a:stretch/>
        </p:blipFill>
        <p:spPr>
          <a:xfrm>
            <a:off x="0" y="1628640"/>
            <a:ext cx="37512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Мы против корруп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 раунд – ОТВЕТЫ И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2 раунд –  НАШИ ЗН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3 раунд -- СИТУ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4 раунд -- ИСТО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5 раунд -- ПРИЧ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6 раунд – ВРЕД КОРРУП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7 раунд – КАРТА КОРРУП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Управляющая кнопка: настраиваемая 3">
            <a:hlinkClick r:id="rId8" action="ppaction://hlinksldjump"/>
          </p:cNvPr>
          <p:cNvSpPr/>
          <p:nvPr/>
        </p:nvSpPr>
        <p:spPr>
          <a:xfrm>
            <a:off x="5292720" y="6021360"/>
            <a:ext cx="3095640" cy="432000"/>
          </a:xfrm>
          <a:custGeom>
            <a:avLst/>
            <a:gdLst>
              <a:gd name="textAreaLeft" fmla="*/ 27720 w 3095640"/>
              <a:gd name="textAreaRight" fmla="*/ 3067920 w 309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54671" h="21600">
                <a:moveTo>
                  <a:pt x="0" y="0"/>
                </a:moveTo>
                <a:lnTo>
                  <a:pt x="154671" y="0"/>
                </a:lnTo>
                <a:lnTo>
                  <a:pt x="154671" y="21600"/>
                </a:lnTo>
                <a:lnTo>
                  <a:pt x="0" y="21600"/>
                </a:lnTo>
                <a:close/>
              </a:path>
              <a:path fill="lightenLess" w="154671" h="21600">
                <a:moveTo>
                  <a:pt x="0" y="0"/>
                </a:moveTo>
                <a:lnTo>
                  <a:pt x="154671" y="0"/>
                </a:lnTo>
                <a:lnTo>
                  <a:pt x="153271" y="1400"/>
                </a:lnTo>
                <a:lnTo>
                  <a:pt x="1400" y="1400"/>
                </a:lnTo>
                <a:close/>
              </a:path>
              <a:path fill="darken" w="154671" h="21600">
                <a:moveTo>
                  <a:pt x="154671" y="0"/>
                </a:moveTo>
                <a:lnTo>
                  <a:pt x="154671" y="21600"/>
                </a:lnTo>
                <a:lnTo>
                  <a:pt x="153271" y="20200"/>
                </a:lnTo>
                <a:lnTo>
                  <a:pt x="153271" y="1400"/>
                </a:lnTo>
                <a:close/>
              </a:path>
              <a:path fill="darkenLess" w="154671" h="21600">
                <a:moveTo>
                  <a:pt x="15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271" y="20200"/>
                </a:lnTo>
                <a:close/>
              </a:path>
              <a:path fill="lighten" w="15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Calibri"/>
              </a:rPr>
              <a:t>1 раун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5800" spc="-1" strike="noStrike">
                <a:solidFill>
                  <a:srgbClr val="632523"/>
                </a:solidFill>
                <a:latin typeface="Calibri"/>
              </a:rPr>
              <a:t>Ответы на вопросы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то такое – коррупц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к с латинского переводится слово «Коррупция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ужно ли бороться с коррупци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огда возникла коррупц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5219640" y="6165720"/>
            <a:ext cx="3313080" cy="358920"/>
          </a:xfrm>
          <a:custGeom>
            <a:avLst/>
            <a:gdLst>
              <a:gd name="textAreaLeft" fmla="*/ 23040 w 3313080"/>
              <a:gd name="textAreaRight" fmla="*/ 3290040 w 3313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99205" h="21600">
                <a:moveTo>
                  <a:pt x="0" y="0"/>
                </a:moveTo>
                <a:lnTo>
                  <a:pt x="199205" y="0"/>
                </a:lnTo>
                <a:lnTo>
                  <a:pt x="199205" y="21600"/>
                </a:lnTo>
                <a:lnTo>
                  <a:pt x="0" y="21600"/>
                </a:lnTo>
                <a:close/>
              </a:path>
              <a:path fill="lightenLess" w="199205" h="21600">
                <a:moveTo>
                  <a:pt x="0" y="0"/>
                </a:moveTo>
                <a:lnTo>
                  <a:pt x="199205" y="0"/>
                </a:lnTo>
                <a:lnTo>
                  <a:pt x="197805" y="1400"/>
                </a:lnTo>
                <a:lnTo>
                  <a:pt x="1400" y="1400"/>
                </a:lnTo>
                <a:close/>
              </a:path>
              <a:path fill="darken" w="199205" h="21600">
                <a:moveTo>
                  <a:pt x="199205" y="0"/>
                </a:moveTo>
                <a:lnTo>
                  <a:pt x="199205" y="21600"/>
                </a:lnTo>
                <a:lnTo>
                  <a:pt x="197805" y="20200"/>
                </a:lnTo>
                <a:lnTo>
                  <a:pt x="197805" y="1400"/>
                </a:lnTo>
                <a:close/>
              </a:path>
              <a:path fill="darkenLess" w="199205" h="21600">
                <a:moveTo>
                  <a:pt x="19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805" y="20200"/>
                </a:lnTo>
                <a:close/>
              </a:path>
              <a:path fill="lighten" w="19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ы против корру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Calibri"/>
              </a:rPr>
              <a:t>2 раун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ак ВЫ думаете –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акие сферы (профессии) наиболее поражены коррупцией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Управляющая кнопка: настраиваемая 3"/>
          <p:cNvSpPr/>
          <p:nvPr/>
        </p:nvSpPr>
        <p:spPr>
          <a:xfrm>
            <a:off x="5219640" y="6165720"/>
            <a:ext cx="3313080" cy="358920"/>
          </a:xfrm>
          <a:custGeom>
            <a:avLst/>
            <a:gdLst>
              <a:gd name="textAreaLeft" fmla="*/ 23040 w 3313080"/>
              <a:gd name="textAreaRight" fmla="*/ 3290040 w 3313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99205" h="21600">
                <a:moveTo>
                  <a:pt x="0" y="0"/>
                </a:moveTo>
                <a:lnTo>
                  <a:pt x="199205" y="0"/>
                </a:lnTo>
                <a:lnTo>
                  <a:pt x="199205" y="21600"/>
                </a:lnTo>
                <a:lnTo>
                  <a:pt x="0" y="21600"/>
                </a:lnTo>
                <a:close/>
              </a:path>
              <a:path fill="lightenLess" w="199205" h="21600">
                <a:moveTo>
                  <a:pt x="0" y="0"/>
                </a:moveTo>
                <a:lnTo>
                  <a:pt x="199205" y="0"/>
                </a:lnTo>
                <a:lnTo>
                  <a:pt x="197805" y="1400"/>
                </a:lnTo>
                <a:lnTo>
                  <a:pt x="1400" y="1400"/>
                </a:lnTo>
                <a:close/>
              </a:path>
              <a:path fill="darken" w="199205" h="21600">
                <a:moveTo>
                  <a:pt x="199205" y="0"/>
                </a:moveTo>
                <a:lnTo>
                  <a:pt x="199205" y="21600"/>
                </a:lnTo>
                <a:lnTo>
                  <a:pt x="197805" y="20200"/>
                </a:lnTo>
                <a:lnTo>
                  <a:pt x="197805" y="1400"/>
                </a:lnTo>
                <a:close/>
              </a:path>
              <a:path fill="darkenLess" w="199205" h="21600">
                <a:moveTo>
                  <a:pt x="19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805" y="20200"/>
                </a:lnTo>
                <a:close/>
              </a:path>
              <a:path fill="lighten" w="19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ы против корру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Calibri"/>
              </a:rPr>
              <a:t>3 раун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На дом было задано: придумать и поставить театрализованную постановку «Взятк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Управляющая кнопка: настраиваемая 3"/>
          <p:cNvSpPr/>
          <p:nvPr/>
        </p:nvSpPr>
        <p:spPr>
          <a:xfrm>
            <a:off x="5219640" y="6165720"/>
            <a:ext cx="3313080" cy="358920"/>
          </a:xfrm>
          <a:custGeom>
            <a:avLst/>
            <a:gdLst>
              <a:gd name="textAreaLeft" fmla="*/ 23040 w 3313080"/>
              <a:gd name="textAreaRight" fmla="*/ 3290040 w 3313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99205" h="21600">
                <a:moveTo>
                  <a:pt x="0" y="0"/>
                </a:moveTo>
                <a:lnTo>
                  <a:pt x="199205" y="0"/>
                </a:lnTo>
                <a:lnTo>
                  <a:pt x="199205" y="21600"/>
                </a:lnTo>
                <a:lnTo>
                  <a:pt x="0" y="21600"/>
                </a:lnTo>
                <a:close/>
              </a:path>
              <a:path fill="lightenLess" w="199205" h="21600">
                <a:moveTo>
                  <a:pt x="0" y="0"/>
                </a:moveTo>
                <a:lnTo>
                  <a:pt x="199205" y="0"/>
                </a:lnTo>
                <a:lnTo>
                  <a:pt x="197805" y="1400"/>
                </a:lnTo>
                <a:lnTo>
                  <a:pt x="1400" y="1400"/>
                </a:lnTo>
                <a:close/>
              </a:path>
              <a:path fill="darken" w="199205" h="21600">
                <a:moveTo>
                  <a:pt x="199205" y="0"/>
                </a:moveTo>
                <a:lnTo>
                  <a:pt x="199205" y="21600"/>
                </a:lnTo>
                <a:lnTo>
                  <a:pt x="197805" y="20200"/>
                </a:lnTo>
                <a:lnTo>
                  <a:pt x="197805" y="1400"/>
                </a:lnTo>
                <a:close/>
              </a:path>
              <a:path fill="darkenLess" w="199205" h="21600">
                <a:moveTo>
                  <a:pt x="19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805" y="20200"/>
                </a:lnTo>
                <a:close/>
              </a:path>
              <a:path fill="lighten" w="19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ы против корру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Calibri"/>
              </a:rPr>
              <a:t>4 раун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ТЕСТИРОВАНИ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«История коррупци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Управляющая кнопка: настраиваемая 3"/>
          <p:cNvSpPr/>
          <p:nvPr/>
        </p:nvSpPr>
        <p:spPr>
          <a:xfrm>
            <a:off x="5219640" y="6165720"/>
            <a:ext cx="3313080" cy="358920"/>
          </a:xfrm>
          <a:custGeom>
            <a:avLst/>
            <a:gdLst>
              <a:gd name="textAreaLeft" fmla="*/ 23040 w 3313080"/>
              <a:gd name="textAreaRight" fmla="*/ 3290040 w 3313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99205" h="21600">
                <a:moveTo>
                  <a:pt x="0" y="0"/>
                </a:moveTo>
                <a:lnTo>
                  <a:pt x="199205" y="0"/>
                </a:lnTo>
                <a:lnTo>
                  <a:pt x="199205" y="21600"/>
                </a:lnTo>
                <a:lnTo>
                  <a:pt x="0" y="21600"/>
                </a:lnTo>
                <a:close/>
              </a:path>
              <a:path fill="lightenLess" w="199205" h="21600">
                <a:moveTo>
                  <a:pt x="0" y="0"/>
                </a:moveTo>
                <a:lnTo>
                  <a:pt x="199205" y="0"/>
                </a:lnTo>
                <a:lnTo>
                  <a:pt x="197805" y="1400"/>
                </a:lnTo>
                <a:lnTo>
                  <a:pt x="1400" y="1400"/>
                </a:lnTo>
                <a:close/>
              </a:path>
              <a:path fill="darken" w="199205" h="21600">
                <a:moveTo>
                  <a:pt x="199205" y="0"/>
                </a:moveTo>
                <a:lnTo>
                  <a:pt x="199205" y="21600"/>
                </a:lnTo>
                <a:lnTo>
                  <a:pt x="197805" y="20200"/>
                </a:lnTo>
                <a:lnTo>
                  <a:pt x="197805" y="1400"/>
                </a:lnTo>
                <a:close/>
              </a:path>
              <a:path fill="darkenLess" w="199205" h="21600">
                <a:moveTo>
                  <a:pt x="19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805" y="20200"/>
                </a:lnTo>
                <a:close/>
              </a:path>
              <a:path fill="lighten" w="19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ы против корру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настраиваемая 4"/>
          <p:cNvSpPr/>
          <p:nvPr/>
        </p:nvSpPr>
        <p:spPr>
          <a:xfrm>
            <a:off x="2556000" y="4437000"/>
            <a:ext cx="4032000" cy="504720"/>
          </a:xfrm>
          <a:custGeom>
            <a:avLst/>
            <a:gdLst>
              <a:gd name="textAreaLeft" fmla="*/ 32400 w 4032000"/>
              <a:gd name="textAreaRight" fmla="*/ 3999600 w 403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72446" h="21600">
                <a:moveTo>
                  <a:pt x="0" y="0"/>
                </a:moveTo>
                <a:lnTo>
                  <a:pt x="172446" y="0"/>
                </a:lnTo>
                <a:lnTo>
                  <a:pt x="172446" y="21600"/>
                </a:lnTo>
                <a:lnTo>
                  <a:pt x="0" y="21600"/>
                </a:lnTo>
                <a:close/>
              </a:path>
              <a:path fill="lightenLess" w="172446" h="21600">
                <a:moveTo>
                  <a:pt x="0" y="0"/>
                </a:moveTo>
                <a:lnTo>
                  <a:pt x="172446" y="0"/>
                </a:lnTo>
                <a:lnTo>
                  <a:pt x="171046" y="1400"/>
                </a:lnTo>
                <a:lnTo>
                  <a:pt x="1400" y="1400"/>
                </a:lnTo>
                <a:close/>
              </a:path>
              <a:path fill="darken" w="172446" h="21600">
                <a:moveTo>
                  <a:pt x="172446" y="0"/>
                </a:moveTo>
                <a:lnTo>
                  <a:pt x="172446" y="21600"/>
                </a:lnTo>
                <a:lnTo>
                  <a:pt x="171046" y="20200"/>
                </a:lnTo>
                <a:lnTo>
                  <a:pt x="171046" y="1400"/>
                </a:lnTo>
                <a:close/>
              </a:path>
              <a:path fill="darkenLess" w="172446" h="21600">
                <a:moveTo>
                  <a:pt x="1724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046" y="20200"/>
                </a:lnTo>
                <a:close/>
              </a:path>
              <a:path fill="lighten" w="1724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ойти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Calibri"/>
              </a:rPr>
              <a:t>5 раун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Каковы причины коррупции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Управляющая кнопка: настраиваемая 3"/>
          <p:cNvSpPr/>
          <p:nvPr/>
        </p:nvSpPr>
        <p:spPr>
          <a:xfrm>
            <a:off x="5219640" y="6165720"/>
            <a:ext cx="3313080" cy="358920"/>
          </a:xfrm>
          <a:custGeom>
            <a:avLst/>
            <a:gdLst>
              <a:gd name="textAreaLeft" fmla="*/ 23040 w 3313080"/>
              <a:gd name="textAreaRight" fmla="*/ 3290040 w 3313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99205" h="21600">
                <a:moveTo>
                  <a:pt x="0" y="0"/>
                </a:moveTo>
                <a:lnTo>
                  <a:pt x="199205" y="0"/>
                </a:lnTo>
                <a:lnTo>
                  <a:pt x="199205" y="21600"/>
                </a:lnTo>
                <a:lnTo>
                  <a:pt x="0" y="21600"/>
                </a:lnTo>
                <a:close/>
              </a:path>
              <a:path fill="lightenLess" w="199205" h="21600">
                <a:moveTo>
                  <a:pt x="0" y="0"/>
                </a:moveTo>
                <a:lnTo>
                  <a:pt x="199205" y="0"/>
                </a:lnTo>
                <a:lnTo>
                  <a:pt x="197805" y="1400"/>
                </a:lnTo>
                <a:lnTo>
                  <a:pt x="1400" y="1400"/>
                </a:lnTo>
                <a:close/>
              </a:path>
              <a:path fill="darken" w="199205" h="21600">
                <a:moveTo>
                  <a:pt x="199205" y="0"/>
                </a:moveTo>
                <a:lnTo>
                  <a:pt x="199205" y="21600"/>
                </a:lnTo>
                <a:lnTo>
                  <a:pt x="197805" y="20200"/>
                </a:lnTo>
                <a:lnTo>
                  <a:pt x="197805" y="1400"/>
                </a:lnTo>
                <a:close/>
              </a:path>
              <a:path fill="darkenLess" w="199205" h="21600">
                <a:moveTo>
                  <a:pt x="19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805" y="20200"/>
                </a:lnTo>
                <a:close/>
              </a:path>
              <a:path fill="lighten" w="19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ы против корру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Calibri"/>
              </a:rPr>
              <a:t>6 раун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ррупция вызывае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эффективное распределение и расходование государственных средств и ресурс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эффективность коррупционных финансовых потоков с точки зрения экономики стран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ери налогов, когда налоговые органы присваивают себе часть налог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ери времени из-за чинимых препятствий, снижение эффективности работы государственного аппарата в цел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орение частных предпринимател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ижение инвестиций в производство, замедление экономического рос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нижение качества общественного сервис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целевое использование международной помощи развивающимся странам, что резко снижает её эффективност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ст социального неравенств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силение организованной преступности — банды превращаются в мафию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щерб политической легитимности вла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ижение общественной мора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правляющая кнопка: настраиваемая 3"/>
          <p:cNvSpPr/>
          <p:nvPr/>
        </p:nvSpPr>
        <p:spPr>
          <a:xfrm>
            <a:off x="5219640" y="6165720"/>
            <a:ext cx="3313080" cy="358920"/>
          </a:xfrm>
          <a:custGeom>
            <a:avLst/>
            <a:gdLst>
              <a:gd name="textAreaLeft" fmla="*/ 23040 w 3313080"/>
              <a:gd name="textAreaRight" fmla="*/ 3290040 w 3313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99205" h="21600">
                <a:moveTo>
                  <a:pt x="0" y="0"/>
                </a:moveTo>
                <a:lnTo>
                  <a:pt x="199205" y="0"/>
                </a:lnTo>
                <a:lnTo>
                  <a:pt x="199205" y="21600"/>
                </a:lnTo>
                <a:lnTo>
                  <a:pt x="0" y="21600"/>
                </a:lnTo>
                <a:close/>
              </a:path>
              <a:path fill="lightenLess" w="199205" h="21600">
                <a:moveTo>
                  <a:pt x="0" y="0"/>
                </a:moveTo>
                <a:lnTo>
                  <a:pt x="199205" y="0"/>
                </a:lnTo>
                <a:lnTo>
                  <a:pt x="197805" y="1400"/>
                </a:lnTo>
                <a:lnTo>
                  <a:pt x="1400" y="1400"/>
                </a:lnTo>
                <a:close/>
              </a:path>
              <a:path fill="darken" w="199205" h="21600">
                <a:moveTo>
                  <a:pt x="199205" y="0"/>
                </a:moveTo>
                <a:lnTo>
                  <a:pt x="199205" y="21600"/>
                </a:lnTo>
                <a:lnTo>
                  <a:pt x="197805" y="20200"/>
                </a:lnTo>
                <a:lnTo>
                  <a:pt x="197805" y="1400"/>
                </a:lnTo>
                <a:close/>
              </a:path>
              <a:path fill="darkenLess" w="199205" h="21600">
                <a:moveTo>
                  <a:pt x="19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805" y="20200"/>
                </a:lnTo>
                <a:close/>
              </a:path>
              <a:path fill="lighten" w="19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ы против корру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Calibri"/>
              </a:rPr>
              <a:t>7 раун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Управляющая кнопка: настраиваемая 3"/>
          <p:cNvSpPr/>
          <p:nvPr/>
        </p:nvSpPr>
        <p:spPr>
          <a:xfrm>
            <a:off x="5830920" y="6497640"/>
            <a:ext cx="3313080" cy="360360"/>
          </a:xfrm>
          <a:custGeom>
            <a:avLst/>
            <a:gdLst>
              <a:gd name="textAreaLeft" fmla="*/ 23040 w 3313080"/>
              <a:gd name="textAreaRight" fmla="*/ 3290040 w 3313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98410" h="21600">
                <a:moveTo>
                  <a:pt x="0" y="0"/>
                </a:moveTo>
                <a:lnTo>
                  <a:pt x="198410" y="0"/>
                </a:lnTo>
                <a:lnTo>
                  <a:pt x="198410" y="21600"/>
                </a:lnTo>
                <a:lnTo>
                  <a:pt x="0" y="21600"/>
                </a:lnTo>
                <a:close/>
              </a:path>
              <a:path fill="lightenLess" w="198410" h="21600">
                <a:moveTo>
                  <a:pt x="0" y="0"/>
                </a:moveTo>
                <a:lnTo>
                  <a:pt x="198410" y="0"/>
                </a:lnTo>
                <a:lnTo>
                  <a:pt x="197010" y="1400"/>
                </a:lnTo>
                <a:lnTo>
                  <a:pt x="1400" y="1400"/>
                </a:lnTo>
                <a:close/>
              </a:path>
              <a:path fill="darken" w="198410" h="21600">
                <a:moveTo>
                  <a:pt x="198410" y="0"/>
                </a:moveTo>
                <a:lnTo>
                  <a:pt x="198410" y="21600"/>
                </a:lnTo>
                <a:lnTo>
                  <a:pt x="197010" y="20200"/>
                </a:lnTo>
                <a:lnTo>
                  <a:pt x="197010" y="1400"/>
                </a:lnTo>
                <a:close/>
              </a:path>
              <a:path fill="darkenLess" w="198410" h="21600">
                <a:moveTo>
                  <a:pt x="198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010" y="20200"/>
                </a:lnTo>
                <a:close/>
              </a:path>
              <a:path fill="lighten" w="198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ы против корру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карта коррупции в России.gif"/>
          <p:cNvPicPr/>
          <p:nvPr/>
        </p:nvPicPr>
        <p:blipFill>
          <a:blip r:embed="rId1"/>
          <a:stretch/>
        </p:blipFill>
        <p:spPr>
          <a:xfrm>
            <a:off x="1332000" y="1484280"/>
            <a:ext cx="671508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07:16:26Z</dcterms:created>
  <dc:creator>Эльмира</dc:creator>
  <dc:description/>
  <dc:language>en-US</dc:language>
  <cp:lastModifiedBy>Рамиля</cp:lastModifiedBy>
  <dcterms:modified xsi:type="dcterms:W3CDTF">2015-12-20T16:31:36Z</dcterms:modified>
  <cp:revision>22</cp:revision>
  <dc:subject/>
  <dc:title> </dc:title>
</cp:coreProperties>
</file>